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B939-3D9D-4C08-AF2B-C3C0802FD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A619-D5EC-494D-9AB5-AB14BCD30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7AF3-E930-44E7-9B3B-0AED631AE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DA52-8066-45AB-9577-321048784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6BDB-7D97-4993-8310-8D25BF78A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2834-FF58-4DC2-B39B-61EC3372A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A6EC-AA78-4BDE-BC4C-AE2348320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59CC-81C3-4EAF-B9C5-003E27FC9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1617-8C96-421C-BB85-2033E58F0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7B5D-A786-4202-910D-03B5245D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A85E-F81B-4CE3-8D1F-86B9A245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D86A-5D79-4C15-A217-2A313A61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935B6-A1BE-42AA-B28D-93A5CB24C4A6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video" Target="file:///tmp/home/.config/libreoffice/4/user/gallery/title%20catherine" TargetMode="External"/><Relationship Id="rId3" Type="http://schemas.microsoft.com/office/2007/relationships/media" Target="file:///tmp/home/.config/libreoffice/4/user/gallery/title%20catherine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video" Target="file:///tmp/home/.config/libreoffice/4/user/gallery/page%2010%20liam" TargetMode="External"/><Relationship Id="rId3" Type="http://schemas.microsoft.com/office/2007/relationships/media" Target="file:///tmp/home/.config/libreoffice/4/user/gallery/page%2010%20liam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video" Target="file:///tmp/home/.config/libreoffice/4/user/gallery/page%2011%20mikey" TargetMode="External"/><Relationship Id="rId3" Type="http://schemas.microsoft.com/office/2007/relationships/media" Target="file:///tmp/home/.config/libreoffice/4/user/gallery/page%2011%20mikey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video" Target="file:///tmp/home/.config/libreoffice/4/user/gallery/page%2012%20isabella" TargetMode="External"/><Relationship Id="rId3" Type="http://schemas.microsoft.com/office/2007/relationships/media" Target="file:///tmp/home/.config/libreoffice/4/user/gallery/page%2012%20isabella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video" Target="file:///tmp/home/.config/libreoffice/4/user/gallery/page%2013%20rhianna" TargetMode="External"/><Relationship Id="rId3" Type="http://schemas.microsoft.com/office/2007/relationships/media" Target="file:///tmp/home/.config/libreoffice/4/user/gallery/page%2013%20rhianna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video" Target="file:///tmp/home/.config/libreoffice/4/user/gallery/page%201%20charley" TargetMode="External"/><Relationship Id="rId3" Type="http://schemas.microsoft.com/office/2007/relationships/media" Target="file:///tmp/home/.config/libreoffice/4/user/gallery/page%201%20charley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video" Target="file:///tmp/home/.config/libreoffice/4/user/gallery/the%20end%20callum" TargetMode="External"/><Relationship Id="rId3" Type="http://schemas.microsoft.com/office/2007/relationships/media" Target="file:///tmp/home/.config/libreoffice/4/user/gallery/the%20end%20callum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video" Target="file:///tmp/home/.config/libreoffice/4/user/gallery/page%202%20peavon" TargetMode="External"/><Relationship Id="rId3" Type="http://schemas.microsoft.com/office/2007/relationships/media" Target="file:///tmp/home/.config/libreoffice/4/user/gallery/page%202%20peavon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video" Target="file:///tmp/home/.config/libreoffice/4/user/gallery/page%204%20jackson" TargetMode="External"/><Relationship Id="rId3" Type="http://schemas.microsoft.com/office/2007/relationships/media" Target="file:///tmp/home/.config/libreoffice/4/user/gallery/page%204%20jackson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video" Target="file:///tmp/home/.config/libreoffice/4/user/gallery/page%207%20jane%3F" TargetMode="External"/><Relationship Id="rId3" Type="http://schemas.microsoft.com/office/2007/relationships/media" Target="file:///tmp/home/.config/libreoffice/4/user/gallery/page%207%20jane%3F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video" Target="file:///tmp/home/.config/libreoffice/4/user/gallery/page%206%20mitchell" TargetMode="External"/><Relationship Id="rId3" Type="http://schemas.microsoft.com/office/2007/relationships/media" Target="file:///tmp/home/.config/libreoffice/4/user/gallery/page%206%20mitchell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video" Target="file:///tmp/home/.config/libreoffice/4/user/gallery/page%208%20phillip" TargetMode="External"/><Relationship Id="rId3" Type="http://schemas.microsoft.com/office/2007/relationships/media" Target="file:///tmp/home/.config/libreoffice/4/user/gallery/page%208%20phillip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video" Target="file:///tmp/home/.config/libreoffice/4/user/gallery/page%209%20lachlan" TargetMode="External"/><Relationship Id="rId3" Type="http://schemas.microsoft.com/office/2007/relationships/media" Target="file:///tmp/home/.config/libreoffice/4/user/gallery/page%209%20lachlan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447920" y="62481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idprint"/>
              </a:rPr>
              <a:t>A Negotiated text by 1/2 Robe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228600"/>
            <a:ext cx="8001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5228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Kidprint"/>
              </a:rPr>
              <a:t>The Three Little Pig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001000" y="380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31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-9360" y="838080"/>
            <a:ext cx="9162720" cy="60962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Kidprint"/>
              </a:rPr>
              <a:t>The  little pig said, </a:t>
            </a:r>
            <a:r>
              <a:rPr b="1" lang="en-AU" sz="3600" spc="-1" strike="noStrike">
                <a:solidFill>
                  <a:srgbClr val="000000"/>
                </a:solidFill>
                <a:latin typeface="Kidprint"/>
              </a:rPr>
              <a:t>“No! No! Not by the hair of my chinny, chin, chin!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idprint"/>
              </a:rPr>
              <a:t>This page illustrated by Phillip and Catlin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534520" y="7621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6061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-533520" y="1219320"/>
            <a:ext cx="9144000" cy="53337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The Wolf said, “I’ll </a:t>
            </a:r>
            <a:r>
              <a:rPr b="1" lang="en-US" sz="3600" spc="-1" strike="noStrike">
                <a:solidFill>
                  <a:srgbClr val="000000"/>
                </a:solidFill>
                <a:latin typeface="Kidprint"/>
              </a:rPr>
              <a:t>huff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 and I’ll </a:t>
            </a:r>
            <a:r>
              <a:rPr b="1" lang="en-US" sz="3600" spc="-1" strike="noStrike">
                <a:solidFill>
                  <a:srgbClr val="000000"/>
                </a:solidFill>
                <a:latin typeface="Kidprint"/>
              </a:rPr>
              <a:t>puff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 and I’ll </a:t>
            </a:r>
            <a:r>
              <a:rPr b="0" i="1" lang="en-US" sz="3600" spc="-1" strike="noStrike">
                <a:solidFill>
                  <a:srgbClr val="000000"/>
                </a:solidFill>
                <a:latin typeface="Kidprint"/>
              </a:rPr>
              <a:t>blow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 your house in.” So he </a:t>
            </a:r>
            <a:r>
              <a:rPr b="1" lang="en-US" sz="3600" spc="-1" strike="noStrike">
                <a:solidFill>
                  <a:srgbClr val="000000"/>
                </a:solidFill>
                <a:latin typeface="Kidprint"/>
              </a:rPr>
              <a:t>huffed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 and he </a:t>
            </a:r>
            <a:r>
              <a:rPr b="1" lang="en-US" sz="3600" spc="-1" strike="noStrike">
                <a:solidFill>
                  <a:srgbClr val="000000"/>
                </a:solidFill>
                <a:latin typeface="Kidprint"/>
              </a:rPr>
              <a:t>puffed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 and he </a:t>
            </a:r>
            <a:r>
              <a:rPr b="0" i="1" lang="en-US" sz="3600" spc="-1" strike="noStrike">
                <a:solidFill>
                  <a:srgbClr val="000000"/>
                </a:solidFill>
                <a:latin typeface="Kidprint"/>
              </a:rPr>
              <a:t>blew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 the house 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614196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idprint"/>
              </a:rPr>
              <a:t>This page illustrated by Kahn and Cather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381880" y="1371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25674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idprint"/>
              </a:rPr>
              <a:t>The first little pig ran to his brother’s ho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614160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Kidprint"/>
              </a:rPr>
              <a:t>This page illustrated by Callum &amp; Jes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534520" y="228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4612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4760" y="657360"/>
            <a:ext cx="9039240" cy="62006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001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The wolf pretended to be a sheep and tried to trick the little pigs.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They could see his sharp teeth and claws through the crack in the door.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They said, “</a:t>
            </a:r>
            <a:r>
              <a:rPr b="1" lang="en-US" sz="3600" spc="-1" strike="noStrike">
                <a:solidFill>
                  <a:srgbClr val="000000"/>
                </a:solidFill>
                <a:latin typeface="Kidprint"/>
              </a:rPr>
              <a:t>You can’t trick us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!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614160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idprint"/>
              </a:rPr>
              <a:t>This page illustrated by Jarrod and Berth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10480" y="152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2706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04960" y="1262160"/>
            <a:ext cx="7532640" cy="43336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The wolf got </a:t>
            </a:r>
            <a:r>
              <a:rPr b="1" lang="en-US" sz="3600" spc="-1" strike="noStrike">
                <a:solidFill>
                  <a:srgbClr val="000000"/>
                </a:solidFill>
                <a:latin typeface="Kidprint"/>
              </a:rPr>
              <a:t>angry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 and he </a:t>
            </a:r>
            <a:r>
              <a:rPr b="1" lang="en-US" sz="3600" spc="-1" strike="noStrike">
                <a:solidFill>
                  <a:srgbClr val="000000"/>
                </a:solidFill>
                <a:latin typeface="Kidprint"/>
              </a:rPr>
              <a:t>huffed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 and </a:t>
            </a:r>
            <a:r>
              <a:rPr b="1" lang="en-US" sz="3600" spc="-1" strike="noStrike">
                <a:solidFill>
                  <a:srgbClr val="000000"/>
                </a:solidFill>
                <a:latin typeface="Kidprint"/>
              </a:rPr>
              <a:t>puffed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 and </a:t>
            </a:r>
            <a:r>
              <a:rPr b="0" i="1" lang="en-US" sz="3600" spc="-1" strike="noStrike">
                <a:solidFill>
                  <a:srgbClr val="000000"/>
                </a:solidFill>
                <a:latin typeface="Kidprint"/>
              </a:rPr>
              <a:t>blew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 the house 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60656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Kidprint"/>
              </a:rPr>
              <a:t>This page illustrated by Jarad and Ja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610480" y="990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6044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342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54864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They ran to the third pig’s house of bricks. The third little pig said, </a:t>
            </a:r>
            <a:r>
              <a:rPr b="1" lang="en-US" sz="3600" spc="-1" strike="noStrike">
                <a:solidFill>
                  <a:srgbClr val="000000"/>
                </a:solidFill>
                <a:latin typeface="Kidprint"/>
              </a:rPr>
              <a:t>“ You’re safe here.”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The pigs had a part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62182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Kidprint"/>
              </a:rPr>
              <a:t>This page illustrated by Kaylene and Racha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8534520" y="228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5626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30592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Along came the wolf and he begged the pigs to let him in.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They wouldn’t, so he </a:t>
            </a:r>
            <a:r>
              <a:rPr b="1" lang="en-US" sz="3600" spc="-1" strike="noStrike">
                <a:solidFill>
                  <a:srgbClr val="000000"/>
                </a:solidFill>
                <a:latin typeface="Kidprint"/>
              </a:rPr>
              <a:t>huffed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 and </a:t>
            </a:r>
            <a:r>
              <a:rPr b="1" lang="en-US" sz="3600" spc="-1" strike="noStrike">
                <a:solidFill>
                  <a:srgbClr val="000000"/>
                </a:solidFill>
                <a:latin typeface="Kidprint"/>
              </a:rPr>
              <a:t>puffed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.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BUT HE COULDN’T BLOW THE HOUSE I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62179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Kidprint"/>
              </a:rPr>
              <a:t>This page illustrated by Isabella and Rhian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8610480" cy="43336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8534520" y="304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7480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-457200" y="290520"/>
            <a:ext cx="10134720" cy="73008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The wolf was </a:t>
            </a:r>
            <a:r>
              <a:rPr b="1" lang="en-US" sz="3600" spc="-1" strike="noStrike">
                <a:solidFill>
                  <a:srgbClr val="000000"/>
                </a:solidFill>
                <a:latin typeface="Kidprint"/>
              </a:rPr>
              <a:t>ANGRY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 and he got a ladder and climbed onto the roof. The pigs heard a </a:t>
            </a:r>
            <a:r>
              <a:rPr b="1" lang="en-US" sz="3600" spc="-1" strike="noStrike">
                <a:solidFill>
                  <a:srgbClr val="000000"/>
                </a:solidFill>
                <a:latin typeface="Kidprint"/>
              </a:rPr>
              <a:t>thump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6095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idprint"/>
              </a:rPr>
              <a:t>This page illustrated by Mitchell and Ku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8229600" y="380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16929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-9360" y="0"/>
            <a:ext cx="9162720" cy="63579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The pigs put a pot of </a:t>
            </a:r>
            <a:r>
              <a:rPr b="1" lang="en-US" sz="3600" spc="-1" strike="noStrike">
                <a:solidFill>
                  <a:srgbClr val="000000"/>
                </a:solidFill>
                <a:latin typeface="Kidprint"/>
              </a:rPr>
              <a:t>boiling water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 in the bottom of the chimne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629424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Kidprint"/>
              </a:rPr>
              <a:t>This page illustrated by Mikey and Ca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8153280" y="838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9562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-4680" y="0"/>
            <a:ext cx="9153360" cy="63914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The wolf jumped down the chimne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5280" y="6370560"/>
            <a:ext cx="64771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Kidprint"/>
              </a:rPr>
              <a:t>This page illustrated by Callum and Sara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8381880" y="228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4270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96920"/>
            <a:ext cx="9144000" cy="66610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The mother pig said, “Go build your own houses.  You’re too big to live here now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5943600"/>
            <a:ext cx="77724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idprint"/>
              </a:rPr>
              <a:t>This page illustrated by Jarrod &amp; Sara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8196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48006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Kidprint"/>
              </a:rPr>
              <a:t>SPLASH!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  The wolf fell into the pot with a </a:t>
            </a:r>
            <a:r>
              <a:rPr b="1" lang="en-US" sz="3600" spc="-1" strike="noStrike">
                <a:solidFill>
                  <a:srgbClr val="000000"/>
                </a:solidFill>
                <a:latin typeface="Kidprint"/>
              </a:rPr>
              <a:t>yell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!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614160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Kidprint"/>
              </a:rPr>
              <a:t>This page illustrated by Charley and Peav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822960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6265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8458200" cy="50770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He got out of the pot and </a:t>
            </a:r>
            <a:r>
              <a:rPr b="0" i="1" lang="en-US" sz="3600" spc="-1" strike="noStrike">
                <a:solidFill>
                  <a:srgbClr val="000000"/>
                </a:solidFill>
                <a:latin typeface="Kidprint"/>
              </a:rPr>
              <a:t>ran home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 because his tail was hurt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629424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Kidprint"/>
              </a:rPr>
              <a:t>This page illustrated by Cheyanne and Nix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8381880" y="609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6746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58766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The pigs never saw him again and lived happily ever after in the brick hou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6294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idprint"/>
              </a:rPr>
              <a:t>This page illustrated by Catherine and Ri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8381880" y="914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18031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533520" y="457200"/>
            <a:ext cx="7924680" cy="556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High Tower Text"/>
              </a:rPr>
              <a:t>THE END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High Tower Text"/>
              <a:ea typeface="High Tower Text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5679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62485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idprint"/>
              </a:rPr>
              <a:t>They walked along looking for something to build their houses wi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19920" y="540972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Kidprint"/>
              </a:rPr>
              <a:t>Illustrated by Rhian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Kidprint"/>
              </a:rPr>
              <a:t>&amp; Peav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381880" y="609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8317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9360" y="0"/>
            <a:ext cx="9162720" cy="62485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The first pig built a house of straw.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He didn’t like working too much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so he built it </a:t>
            </a:r>
            <a:r>
              <a:rPr b="1" lang="en-US" sz="3600" spc="-1" strike="noStrike">
                <a:solidFill>
                  <a:srgbClr val="000000"/>
                </a:solidFill>
                <a:latin typeface="Kidprint"/>
              </a:rPr>
              <a:t>quickly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6217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Kidprint"/>
              </a:rPr>
              <a:t>This page illustrated by Liam and Ryl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86800" y="228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484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091440" cy="60199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The second pig built a house of sticks.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He didn’t like working too much either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so he built it </a:t>
            </a:r>
            <a:r>
              <a:rPr b="1" lang="en-US" sz="3600" spc="-1" strike="noStrike">
                <a:solidFill>
                  <a:srgbClr val="000000"/>
                </a:solidFill>
                <a:latin typeface="Kidprint"/>
              </a:rPr>
              <a:t>quickly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6217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idprint"/>
              </a:rPr>
              <a:t>This page illustrated by Bertha and Jarr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534520" y="304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0885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The third pig liked to work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so he built his house out of bricks because he knew there was a </a:t>
            </a:r>
            <a:r>
              <a:rPr b="1" lang="en-US" sz="3600" spc="-1" strike="noStrike">
                <a:solidFill>
                  <a:srgbClr val="000000"/>
                </a:solidFill>
                <a:latin typeface="Kidprint"/>
              </a:rPr>
              <a:t>wolf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 in the fore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60955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idprint"/>
              </a:rPr>
              <a:t>This page illustrated by Jackson and Charl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534520" y="457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8032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idprint"/>
              </a:rPr>
              <a:t>The first two pigs played their instruments and laughed and sang. “Who’s afraid of the big, bad wolf?” as they skipped off into the for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60955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Kidprint"/>
              </a:rPr>
              <a:t>This page was illustrated by Kurt &amp; Kayle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6104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9172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9360" y="838080"/>
            <a:ext cx="9162720" cy="60199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They went back to their hous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614160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Kidprint"/>
              </a:rPr>
              <a:t>This page illustrated by Nixon and Mik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3917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680" y="457200"/>
            <a:ext cx="9134640" cy="59245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idprint"/>
              </a:rPr>
              <a:t>The wolf came and knocked on the door of the first little pig’s house. He said, “Let me in! Let me in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629424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Kidprint"/>
              </a:rPr>
              <a:t>This page illustrated by Jackson and Maddi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458200" y="762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8770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hane Pilkie</cp:lastModifiedBy>
  <dcterms:modified xsi:type="dcterms:W3CDTF">2005-05-17T00:26:11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