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B63-C9EA-461C-8B15-95B2E8CF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C6A-5023-487B-A5B1-E4306D25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195-67DE-482A-90B7-690E6B4E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6B13-4459-4CA3-B5DD-3C2EBC1D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FDE-C354-4239-9D56-F63F77E6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D032-3A4F-4314-9F69-75FC344C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ADB-1EB6-4A8B-AB47-90FC90B4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7D0-3B2C-4BD0-8DCE-5A61A3FE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7899-38F5-4588-9C17-774EC6ED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544-2C06-414C-A824-8AF7CD24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936-250E-493A-A3A9-5AB3D9E7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756-C5A4-4C5A-B6CD-D6AD5DB8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4FAD-1FE5-4F8B-B150-4D77A2E3D928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video" Target="file:///tmp/home/.config/libreoffice/4/user/gallery/title%20catherine" TargetMode="External"/><Relationship Id="rId3" Type="http://schemas.microsoft.com/office/2007/relationships/media" Target="file:///tmp/home/.config/libreoffice/4/user/gallery/title%20catherine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video" Target="file:///tmp/home/.config/libreoffice/4/user/gallery/page%2010%20liam" TargetMode="External"/><Relationship Id="rId3" Type="http://schemas.microsoft.com/office/2007/relationships/media" Target="file:///tmp/home/.config/libreoffice/4/user/gallery/page%2010%20liam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video" Target="file:///tmp/home/.config/libreoffice/4/user/gallery/page%2011%20mikey" TargetMode="External"/><Relationship Id="rId3" Type="http://schemas.microsoft.com/office/2007/relationships/media" Target="file:///tmp/home/.config/libreoffice/4/user/gallery/page%2011%20mikey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video" Target="file:///tmp/home/.config/libreoffice/4/user/gallery/page%2012%20isabella" TargetMode="External"/><Relationship Id="rId3" Type="http://schemas.microsoft.com/office/2007/relationships/media" Target="file:///tmp/home/.config/libreoffice/4/user/gallery/page%2012%20isabella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video" Target="file:///tmp/home/.config/libreoffice/4/user/gallery/page%2013%20rhianna" TargetMode="External"/><Relationship Id="rId3" Type="http://schemas.microsoft.com/office/2007/relationships/media" Target="file:///tmp/home/.config/libreoffice/4/user/gallery/page%2013%20rhianna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video" Target="file:///tmp/home/.config/libreoffice/4/user/gallery/page%201%20charley" TargetMode="External"/><Relationship Id="rId3" Type="http://schemas.microsoft.com/office/2007/relationships/media" Target="file:///tmp/home/.config/libreoffice/4/user/gallery/page%201%20charley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video" Target="file:///tmp/home/.config/libreoffice/4/user/gallery/the%20end%20callum" TargetMode="External"/><Relationship Id="rId3" Type="http://schemas.microsoft.com/office/2007/relationships/media" Target="file:///tmp/home/.config/libreoffice/4/user/gallery/the%20end%20callum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video" Target="file:///tmp/home/.config/libreoffice/4/user/gallery/page%202%20peavon" TargetMode="External"/><Relationship Id="rId3" Type="http://schemas.microsoft.com/office/2007/relationships/media" Target="file:///tmp/home/.config/libreoffice/4/user/gallery/page%202%20peavon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video" Target="file:///tmp/home/.config/libreoffice/4/user/gallery/page%204%20jackson" TargetMode="External"/><Relationship Id="rId3" Type="http://schemas.microsoft.com/office/2007/relationships/media" Target="file:///tmp/home/.config/libreoffice/4/user/gallery/page%204%20jackson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video" Target="file:///tmp/home/.config/libreoffice/4/user/gallery/page%207%20jane%3F" TargetMode="External"/><Relationship Id="rId3" Type="http://schemas.microsoft.com/office/2007/relationships/media" Target="file:///tmp/home/.config/libreoffice/4/user/gallery/page%207%20jane%3F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video" Target="file:///tmp/home/.config/libreoffice/4/user/gallery/page%206%20mitchell" TargetMode="External"/><Relationship Id="rId3" Type="http://schemas.microsoft.com/office/2007/relationships/media" Target="file:///tmp/home/.config/libreoffice/4/user/gallery/page%206%20mitchel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video" Target="file:///tmp/home/.config/libreoffice/4/user/gallery/page%208%20phillip" TargetMode="External"/><Relationship Id="rId3" Type="http://schemas.microsoft.com/office/2007/relationships/media" Target="file:///tmp/home/.config/libreoffice/4/user/gallery/page%208%20philli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video" Target="file:///tmp/home/.config/libreoffice/4/user/gallery/page%209%20lachlan" TargetMode="External"/><Relationship Id="rId3" Type="http://schemas.microsoft.com/office/2007/relationships/media" Target="file:///tmp/home/.config/libreoffice/4/user/gallery/page%209%20lachlan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47920" y="6248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A Negotiated text by 1/2 Rob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8600"/>
            <a:ext cx="8001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52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idprint"/>
              </a:rPr>
              <a:t>The Three Little P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010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1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9360" y="838080"/>
            <a:ext cx="9162720" cy="6096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Kidprint"/>
              </a:rPr>
              <a:t>The  little pig said, </a:t>
            </a:r>
            <a:r>
              <a:rPr b="1" lang="en-AU" sz="3600" spc="-1" strike="noStrike">
                <a:solidFill>
                  <a:srgbClr val="000000"/>
                </a:solidFill>
                <a:latin typeface="Kidprint"/>
              </a:rPr>
              <a:t>“No! No! Not by the hair of my chinny, chin, chin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Phillip and Catli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76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06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533520" y="1219320"/>
            <a:ext cx="9144000" cy="5333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said, “I’ll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I’ll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I’ll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blow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your house in.” So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blew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the house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61419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Kahn and Cathe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1371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567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e first little pig ran to his brother’s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61416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Callum &amp; J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61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4760" y="657360"/>
            <a:ext cx="9039240" cy="6200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pretended to be a sheep and tried to trick the little pigs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could see his sharp teeth and claws through the crack in the door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said, “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You can’t trick us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6141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Jarrod and Bert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2706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04960" y="1262160"/>
            <a:ext cx="7532640" cy="4333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got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angr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blew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the house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6065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Jarad and Ja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104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604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34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54864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ran to the third pig’s house of bricks. The third little pig said,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“ You’re safe here.”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pigs had a pa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6218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Kaylene and Rach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562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Along came the wolf and he begged the pigs to let him in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wouldn’t, so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BUT HE COULDN’T BLOW THE HOUSE I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6217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Isabella and Rhi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610480" cy="4333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748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457200" y="290520"/>
            <a:ext cx="10134720" cy="7300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was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ANGR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got a ladder and climbed onto the roof. The pigs heard a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thump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095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Mitchell and K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692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6357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pigs put a pot of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boiling water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in the bottom of the chim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Mikey and Ca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15328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956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9153360" cy="6391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jumped down the chim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637056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Callum and S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27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661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mother pig said, “Go build your own houses.  You’re too big to live here now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5943600"/>
            <a:ext cx="77724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Jarrod &amp; Sar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19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SPLASH!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 The wolf fell into the pot with a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yell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!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6141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Charley and Peav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265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077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He got out of the pot and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ran home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because his tail was hur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Cheyanne an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18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746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876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pigs never saw him again and lived happily ever after in the brick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Catherine and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38188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803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33520" y="457200"/>
            <a:ext cx="7924680" cy="55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igh Tower Text"/>
              </a:rPr>
              <a:t>THE END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5679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ey walked along looking for something to build their houses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19920" y="54097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Illustrated by Rhian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&amp; Peav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31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6248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first pig built a house of straw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He didn’t like working too much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so he built it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quickl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6217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Liam and Ry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868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84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091440" cy="6019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second pig built a house of sticks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He didn’t like working too much either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so he built it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quickl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6217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Bertha and Jarr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88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third pig liked to work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so he built his house out of bricks because he knew there was a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wolf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in the for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6095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Jackson and Char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803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idprint"/>
              </a:rPr>
              <a:t>The first two pigs played their instruments and laughed and sang. “Who’s afraid of the big, bad wolf?” as they skipped off into the fo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6095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Kidprint"/>
              </a:rPr>
              <a:t>This page was illustrated by Kurt &amp; Kayl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172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9360" y="838080"/>
            <a:ext cx="9162720" cy="6019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went back to their hou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61416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Nixon and Mi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91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0" y="457200"/>
            <a:ext cx="9134640" cy="5924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e wolf came and knocked on the door of the first little pig’s house. He said, “Let me in! Let me i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Jackson and Madd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877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ane Pilkie</cp:lastModifiedBy>
  <dcterms:modified xsi:type="dcterms:W3CDTF">2005-05-17T00:26:1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