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6C3-D97A-4FDD-A409-C5C4E4BE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579-DAA6-42BD-8AE2-07C950F2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614-964C-4219-8975-1FAF6DF4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8DB-97DB-4AF6-BD6D-C766D83F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C4C-A958-4A89-AC94-B6F61499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EE6-31A6-4420-BA4F-6FE6A6DD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E2E-279B-4AA6-90D0-A67AE4ED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9F6-9578-4742-83CC-1AD9A083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CDC-75B9-4676-9420-E97674C5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146-D02F-4FE8-A1DC-C349784E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8C1-A457-4ACB-9A71-CDCA8FC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E9C-BF92-418A-968E-1C700BBB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8859-7EC5-4535-A6BF-F2FD1402CEB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title%20catherine" TargetMode="External"/><Relationship Id="rId3" Type="http://schemas.microsoft.com/office/2007/relationships/media" Target="file:///tmp/home/.config/libreoffice/4/user/gallery/title%20catherine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video" Target="file:///tmp/home/.config/libreoffice/4/user/gallery/page%2010%20liam" TargetMode="External"/><Relationship Id="rId3" Type="http://schemas.microsoft.com/office/2007/relationships/media" Target="file:///tmp/home/.config/libreoffice/4/user/gallery/page%2010%20lia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video" Target="file:///tmp/home/.config/libreoffice/4/user/gallery/page%2011%20mikey" TargetMode="External"/><Relationship Id="rId3" Type="http://schemas.microsoft.com/office/2007/relationships/media" Target="file:///tmp/home/.config/libreoffice/4/user/gallery/page%2011%20mik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video" Target="file:///tmp/home/.config/libreoffice/4/user/gallery/page%2012%20isabella" TargetMode="External"/><Relationship Id="rId3" Type="http://schemas.microsoft.com/office/2007/relationships/media" Target="file:///tmp/home/.config/libreoffice/4/user/gallery/page%2012%20isabell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video" Target="file:///tmp/home/.config/libreoffice/4/user/gallery/page%2013%20rhianna" TargetMode="External"/><Relationship Id="rId3" Type="http://schemas.microsoft.com/office/2007/relationships/media" Target="file:///tmp/home/.config/libreoffice/4/user/gallery/page%2013%20rhiann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video" Target="file:///tmp/home/.config/libreoffice/4/user/gallery/page%201%20charley" TargetMode="External"/><Relationship Id="rId3" Type="http://schemas.microsoft.com/office/2007/relationships/media" Target="file:///tmp/home/.config/libreoffice/4/user/gallery/page%201%20charl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video" Target="file:///tmp/home/.config/libreoffice/4/user/gallery/the%20end%20callum" TargetMode="External"/><Relationship Id="rId3" Type="http://schemas.microsoft.com/office/2007/relationships/media" Target="file:///tmp/home/.config/libreoffice/4/user/gallery/the%20end%20callu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video" Target="file:///tmp/home/.config/libreoffice/4/user/gallery/page%202%20peavon" TargetMode="External"/><Relationship Id="rId3" Type="http://schemas.microsoft.com/office/2007/relationships/media" Target="file:///tmp/home/.config/libreoffice/4/user/gallery/page%202%20peav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page%204%20jackson" TargetMode="External"/><Relationship Id="rId3" Type="http://schemas.microsoft.com/office/2007/relationships/media" Target="file:///tmp/home/.config/libreoffice/4/user/gallery/page%204%20jacks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video" Target="file:///tmp/home/.config/libreoffice/4/user/gallery/page%207%20jane%3F" TargetMode="External"/><Relationship Id="rId3" Type="http://schemas.microsoft.com/office/2007/relationships/media" Target="file:///tmp/home/.config/libreoffice/4/user/gallery/page%207%20jane%3F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video" Target="file:///tmp/home/.config/libreoffice/4/user/gallery/page%206%20mitchell" TargetMode="External"/><Relationship Id="rId3" Type="http://schemas.microsoft.com/office/2007/relationships/media" Target="file:///tmp/home/.config/libreoffice/4/user/gallery/page%206%20mitchel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video" Target="file:///tmp/home/.config/libreoffice/4/user/gallery/page%208%20phillip" TargetMode="External"/><Relationship Id="rId3" Type="http://schemas.microsoft.com/office/2007/relationships/media" Target="file:///tmp/home/.config/libreoffice/4/user/gallery/page%208%20philli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video" Target="file:///tmp/home/.config/libreoffice/4/user/gallery/page%209%20lachlan" TargetMode="External"/><Relationship Id="rId3" Type="http://schemas.microsoft.com/office/2007/relationships/media" Target="file:///tmp/home/.config/libreoffice/4/user/gallery/page%209%20lachla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A Negotiated text by 1/2 Rob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8600"/>
            <a:ext cx="8001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idprint"/>
              </a:rPr>
              <a:t>The Three Little P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1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96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Kidprint"/>
              </a:rPr>
              <a:t>The  little pig said, </a:t>
            </a:r>
            <a:r>
              <a:rPr b="1" lang="en-AU" sz="3600" spc="-1" strike="noStrike">
                <a:solidFill>
                  <a:srgbClr val="000000"/>
                </a:solidFill>
                <a:latin typeface="Kidprint"/>
              </a:rPr>
              <a:t>“No! No! Not by the hair of my chinny, chin, chin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Phillip and Catli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6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533520" y="121932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said, “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o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your house in.”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61419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Kahn and Cathe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6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first little pig ran to his brother’s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allum &amp; J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61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760" y="657360"/>
            <a:ext cx="9039240" cy="620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pretended to be a sheep and tried to trick the little pig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could see his sharp teeth and claws through the crack in the door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said, “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ou can’t trick us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and Bert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70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04960" y="1262160"/>
            <a:ext cx="7532640" cy="4333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go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065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Jarad and Ja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104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04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34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486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ran to the third pig’s house of bricks. The third little pig said,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“ You’re safe here.”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had a pa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Kaylene and Rach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62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Along came the wolf and he begged the pigs to let him in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ouldn’t,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BUT HE COULDN’T BLOW THE HOUSE 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Isabella and Rhi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610480" cy="433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748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457200" y="290520"/>
            <a:ext cx="10134720" cy="7300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was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got a ladder and climbed onto the roof. The pigs heard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thump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Mitchell and K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692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357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put a pot of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boiling water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bottom of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Mikey and Ca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956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391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jumped down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637056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allum and S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27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mother pig said, “Go build your own houses.  You’re too big to live here now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943600"/>
            <a:ext cx="7772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&amp;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9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SPLASH!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 The wolf fell into the pot with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ell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harley and Pea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26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got out of the pot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ran home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because his tail was hur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heyanne an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74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87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never saw him again and lived happily ever after in the brick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Catherine and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188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03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33520" y="457200"/>
            <a:ext cx="7924680" cy="55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igh Tower Text"/>
              </a:rPr>
              <a:t>THE EN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567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y walked along looking for something to build their houses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19920" y="54097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Illustrated by Rhian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&amp; Peav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1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248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first pig built a house of straw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Liam and Ry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84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91440" cy="6019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second pig built a house of stick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 either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Bertha and Jar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88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third pig liked to work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his house out of bricks because he knew there was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wol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fo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ckson and Char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03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idprint"/>
              </a:rPr>
              <a:t>The first two pigs played their instruments and laughed and sang. “Who’s afraid of the big, bad wolf?” as they skipped off into the fo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Kidprint"/>
              </a:rPr>
              <a:t>This page was illustrated by Kurt &amp; Kayl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17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ent back to their ho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Nixon and Mi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91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0" y="457200"/>
            <a:ext cx="9134640" cy="5924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wolf came and knocked on the door of the first little pig’s house. He said, “Let me in! Let me i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Jackson and Mad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77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ne Pilkie</cp:lastModifiedBy>
  <dcterms:modified xsi:type="dcterms:W3CDTF">2005-05-17T00:26:1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