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521-19D6-4952-A803-92A66005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F0C-4A33-4F57-891E-122944FD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4B4-6F24-485D-BD06-CFEB153C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4CD-31BB-40D3-A07F-9046B201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DC1-7529-422F-8FE5-12D907C8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CFB-480C-45F4-86D9-B27315D5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2A0-9902-4F22-9E5C-6E00F293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050-2279-4198-B48B-305F3C4B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657-CF9A-4E5E-98EE-1B43906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84-ABBF-4D0C-A0A3-32C2589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3E0-841C-4DB6-A955-E2714E45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E2A-2707-4074-853A-DD79A63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42A-F5F4-4B60-8D97-E216E1A0F65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title%20catherine" TargetMode="External"/><Relationship Id="rId3" Type="http://schemas.microsoft.com/office/2007/relationships/media" Target="file:///tmp/home/.config/libreoffice/4/user/gallery/title%20catherine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page%2010%20liam" TargetMode="External"/><Relationship Id="rId3" Type="http://schemas.microsoft.com/office/2007/relationships/media" Target="file:///tmp/home/.config/libreoffice/4/user/gallery/page%2010%20lia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page%2011%20mikey" TargetMode="External"/><Relationship Id="rId3" Type="http://schemas.microsoft.com/office/2007/relationships/media" Target="file:///tmp/home/.config/libreoffice/4/user/gallery/page%2011%20mik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page%2012%20isabella" TargetMode="External"/><Relationship Id="rId3" Type="http://schemas.microsoft.com/office/2007/relationships/media" Target="file:///tmp/home/.config/libreoffice/4/user/gallery/page%2012%20isabell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video" Target="file:///tmp/home/.config/libreoffice/4/user/gallery/page%2013%20rhianna" TargetMode="External"/><Relationship Id="rId3" Type="http://schemas.microsoft.com/office/2007/relationships/media" Target="file:///tmp/home/.config/libreoffice/4/user/gallery/page%2013%20rhiann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page%201%20charley" TargetMode="External"/><Relationship Id="rId3" Type="http://schemas.microsoft.com/office/2007/relationships/media" Target="file:///tmp/home/.config/libreoffice/4/user/gallery/page%201%20charley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video" Target="file:///tmp/home/.config/libreoffice/4/user/gallery/the%20end%20callum" TargetMode="External"/><Relationship Id="rId3" Type="http://schemas.microsoft.com/office/2007/relationships/media" Target="file:///tmp/home/.config/libreoffice/4/user/gallery/the%20end%20callu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page%202%20peavon" TargetMode="External"/><Relationship Id="rId3" Type="http://schemas.microsoft.com/office/2007/relationships/media" Target="file:///tmp/home/.config/libreoffice/4/user/gallery/page%202%20peav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page%204%20jackson" TargetMode="External"/><Relationship Id="rId3" Type="http://schemas.microsoft.com/office/2007/relationships/media" Target="file:///tmp/home/.config/libreoffice/4/user/gallery/page%204%20jackso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page%207%20jane%3F" TargetMode="External"/><Relationship Id="rId3" Type="http://schemas.microsoft.com/office/2007/relationships/media" Target="file:///tmp/home/.config/libreoffice/4/user/gallery/page%207%20jane%3F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page%206%20mitchell" TargetMode="External"/><Relationship Id="rId3" Type="http://schemas.microsoft.com/office/2007/relationships/media" Target="file:///tmp/home/.config/libreoffice/4/user/gallery/page%206%20mitchel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page%208%20phillip" TargetMode="External"/><Relationship Id="rId3" Type="http://schemas.microsoft.com/office/2007/relationships/media" Target="file:///tmp/home/.config/libreoffice/4/user/gallery/page%208%20philli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page%209%20lachlan" TargetMode="External"/><Relationship Id="rId3" Type="http://schemas.microsoft.com/office/2007/relationships/media" Target="file:///tmp/home/.config/libreoffice/4/user/gallery/page%209%20lachlan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A Negotiated text by 1/2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idprint"/>
              </a:rPr>
              <a:t>The Three Little Pi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1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idprint"/>
              </a:rPr>
              <a:t>The  little pig said, </a:t>
            </a:r>
            <a:r>
              <a:rPr b="1" lang="en-AU" sz="3600" spc="-1" strike="noStrike">
                <a:solidFill>
                  <a:srgbClr val="000000"/>
                </a:solidFill>
                <a:latin typeface="Kidprint"/>
              </a:rPr>
              <a:t>“No! No! Not by the hair of my chinny, chin, chin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Phillip and Catl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533520" y="12193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said, “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I’ll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o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your house in.”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14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Kahn and Cathe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first little pig ran to his brother’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allum &amp; J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61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760" y="657360"/>
            <a:ext cx="9039240" cy="62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pretended to be a sheep and tried to trick the little pig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could see his sharp teeth and claws through the crack in the doo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said, “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ou can’t trick us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and Be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0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04960" y="1262160"/>
            <a:ext cx="7532640" cy="4333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go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blew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the hous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065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Jarad and Ja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104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ran to the third pig’s house of bricks. The third little pig said,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“ You’re safe here.”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had a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Kaylene and Ra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62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Along came the wolf and he begged the pigs to let him i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ouldn’t, so he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h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puffed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BUT HE COULDN’T BLOW THE HOUSE 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Isabella and Rh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4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57200" y="290520"/>
            <a:ext cx="10134720" cy="7300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was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ANGR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and he got a ladder and climbed onto the roof. The pigs heard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thump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Mitchell and K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92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357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put a pot of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boiling water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bottom of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Mikey and Ca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956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391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wolf jumped down the chimn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637056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allum and 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27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mother pig said, “Go build your own houses.  You’re too big to live here now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943600"/>
            <a:ext cx="7772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rrod &amp;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9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SPLASH!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 The wolf fell into the pot with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yell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!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141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Charley and Pea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2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got out of the pot and </a:t>
            </a:r>
            <a:r>
              <a:rPr b="0" i="1" lang="en-US" sz="3600" spc="-1" strike="noStrike">
                <a:solidFill>
                  <a:srgbClr val="000000"/>
                </a:solidFill>
                <a:latin typeface="Kidprint"/>
              </a:rPr>
              <a:t>ran home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because his tail was hur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Cheyanne an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7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pigs never saw him again and lived happily ever after in the brick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Catherine and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18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33520" y="457200"/>
            <a:ext cx="7924680" cy="55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igh Tower Text"/>
              </a:rPr>
              <a:t>THE E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67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y walked along looking for something to build their hou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54097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Illustrated by Rhia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&amp; Peav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1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first pig built a house of straw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Liam and Ry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9144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second pig built a house of stick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He didn’t like working too much either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it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quickly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Bertha and Jar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8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 third pig liked to work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so he built his house out of bricks because he knew there was a </a:t>
            </a:r>
            <a:r>
              <a:rPr b="1" lang="en-US" sz="3600" spc="-1" strike="noStrike">
                <a:solidFill>
                  <a:srgbClr val="000000"/>
                </a:solidFill>
                <a:latin typeface="Kidprint"/>
              </a:rPr>
              <a:t>wolf</a:t>
            </a: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 in the fo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is page illustrated by Jackson and 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03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idprint"/>
              </a:rPr>
              <a:t>The first two pigs played their instruments and laughed and sang. “Who’s afraid of the big, bad wolf?” as they skipped off in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095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Kidprint"/>
              </a:rPr>
              <a:t>This page was illustrated by Kurt &amp; Kayl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360" y="838080"/>
            <a:ext cx="916272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idprint"/>
              </a:rPr>
              <a:t>They went back to their ho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idprint"/>
              </a:rPr>
              <a:t>This page illustrated by Nixon and Mi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91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457200"/>
            <a:ext cx="9134640" cy="5924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The wolf came and knocked on the door of the first little pig’s house. He said, “Let me in! Let me i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942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idprint"/>
              </a:rPr>
              <a:t>This page illustrated by Jackson and Mad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7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e Pilkie</cp:lastModifiedBy>
  <dcterms:modified xsi:type="dcterms:W3CDTF">2005-05-17T00:26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